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053-7924-4341-BA05-A496DA7D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3B4-9EA9-4C53-B162-6313DA66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85C63-1D4F-49F4-8D2D-8A37ED5E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86AC0-3B59-46EA-BA12-9DC93251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EF215-93BF-4C0C-8D7A-9EAC8B27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9B540-BE36-4B66-8B56-05BED9E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68212-0C05-41A2-AF3B-C64B3298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1CFAE-52FA-4D61-BBE4-7AC002A3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ABFCE-2745-4BB3-879C-97CF6BFD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9DCE8-927D-4CAD-A0DE-97F43E0B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86497-D96A-4A2D-BA86-5E5F8AE8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153A2-BC99-45EB-B416-22CA39A2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B0B-4D04-4F06-B67A-C08FED1E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EE649-5ADC-4739-9AFD-E8D20AA4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4EA44-4540-4E0A-A70C-B3BDF339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5FE6D-09F4-4242-8ACF-3F28837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014D6-1255-4A2B-8B0D-313FF494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23E17-2495-483E-A108-C9F17E89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8BF66-A4B3-4B2C-A7CA-5A58386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363E2-0262-4A59-BE76-E7367ADB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16F5D-BE02-4E97-97FD-A7F74936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65870-4340-41B9-9314-C2601656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A8753-4C83-40EF-A8C1-B3DCECC5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DD1-0737-4863-9DFB-D2BD2370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E7311-BED3-447E-A5AF-808B914E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640AA-861A-4ED8-80C0-288C4838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5626B-6B7A-4D96-8CD7-AB4FF7D9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2B04F-ED69-4512-841D-1C643E84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1D614-30FF-4734-8203-9D7D92F4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E43AA-B572-4D4A-9388-BF0C98E2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A4E3A-840F-442E-A2BB-6050F2A6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6F992-44E7-4261-A52F-D57900B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6D2D6-B942-45F1-9B24-4C93AA8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DF335-802D-4ADB-9B63-C7E266CB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8D5B-2C29-4234-9A4A-7DD7CF9F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38569-320A-40A2-B180-C2DF4B50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51659-4012-4C76-8D31-A2ABAA9D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5C73E-413D-44B4-8251-67BAA769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94F53-DF52-401C-96CB-C8AB1D7E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A2E68-B51F-48BD-987B-FDF81806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B1D34-C56F-4EDD-A877-75EC2699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DFF4B-9CE6-4CDC-A439-DB68699D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C1851-F575-4529-B96A-9039D16C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74519-7728-42BC-8F2F-A0BF29B6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19FCF-C989-4EFA-B114-B97413F5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1ED5-262E-43A3-AC63-82DC1EF0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2ACE6-8696-41B5-8D90-3547E3C1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37CF0-50BF-4E0F-9A07-B148C718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2656D-7C06-4D94-A161-814C41DF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8EFA9-C092-420D-9AF3-25E8DC2B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650B4-AE20-4892-AF13-AF9411DB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CB8A3-57CD-46C5-B847-9ECB4CD6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790A2-5506-4F3E-9F93-0892EA75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AB41A-E287-4899-98C8-0BE440B4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E57CD-C455-4AC7-A5F8-0B171802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B7EE0-3247-460E-9A1A-F5164B34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1D7A-FDC1-451C-A196-7E573795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A8A08-B534-4FE6-8833-CBB6697D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C6D65-4A0C-44E4-932F-0DE65042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3DA9E-263A-4BE9-A004-A33E6274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8CAF6-04E9-44B9-8416-BE500EB5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3E301-E180-4FE9-8989-CFFCDE19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F497B-BB88-451C-81DC-6F086A79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9CE52-195D-474C-A0E5-B6C396B2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89243-9086-4D45-99E6-F2846EAB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2117B-AB2C-4366-B0C4-81AE72A3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89194-DDBB-4917-858E-43CD99FE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BB4B-6511-4D3C-8667-2DA0BD34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107EE-3A4A-4493-B8CE-4330D346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C1B38B-109F-4E6D-AE89-51984736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DD27D-AEFB-4D2F-AD55-D2504EDC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1E957-73B2-4DAC-BC1F-678DBECB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08135-0D56-4514-BC5D-36EE89D8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FC096-C41C-410C-8FFD-E26BA49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D6036-25E5-456C-876A-1BCB3FB2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CE8C3-D2B4-4306-AE16-B838A178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AE624-5196-40CF-A8DE-DB3DC775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736E4-38B4-4E1F-8554-8A625B28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4117-D534-4091-B387-7E22CB5B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95728-22B2-426B-8564-F11A8FA0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F2A89-B185-4EEB-9652-4E97952E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072F8-8085-41F8-949A-C231271D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C4782-72C0-4587-A6E3-CFDD7818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D3EB61-8A9A-48DE-9C95-80E88A03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D97B0-AF97-4AE4-9414-DE8A213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609DA-436B-4E9C-BA5F-C39257FE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58129-A92B-4316-B1AF-982F1673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D57F7-6B9A-443A-835B-DFCFC4B2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906FA-0528-4246-9C93-39AF70C2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A24E-5FFA-4585-A4A4-F4312214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BB9AD-E9F5-472C-B2BA-F1B2E16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2A3F2-C49D-4417-ADEE-75DF2B2C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9E76B-877F-4611-AF09-70FBDC29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85B99-D87C-43FD-9A19-F7AA51FE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C2A31-D5DB-4A84-A5C3-27EA7C00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5FC13-6B50-4D02-B26D-F474769A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E2037-09CA-484F-965F-73DF252E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79014-1B11-4C8C-8D79-BCC4FAEC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ED935-D302-4AE0-ABA4-6A3999F1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EFD87-53FB-42A5-A228-59E58AF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A75E-8CDB-47D5-8200-4B75CC7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4AF73-43B8-4AB9-8FCC-71CAA53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BF67C-A771-4674-A7B6-55BCDA75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7C049-F630-47AA-8D5E-5B390E62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23187-5152-4CC5-92FE-A563AA99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ACA43-030A-49DF-8DB4-E0BCBA02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857E6-276C-417F-B6D8-4C72519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695DA5-D823-41E0-9B2D-EC8EBC90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5B9D1-65A6-4C30-80A0-17441F8F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7291C-3A48-4FA6-9EF8-78246419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DC219-AAC6-4631-9D16-FDF24CEF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1BD-1AFB-4A66-9E7B-CD637621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0AB0-2E6B-4AE9-9B0D-1163856F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50FA6-0871-41D6-92A3-442F708C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888EC-9C7A-465F-81CA-F2E39012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0930E-B5AF-4357-87D6-FC35BB57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FFE36-4C8D-4AD6-8BF3-3D7BE049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97B95-5C6C-4564-B8BD-087E377C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40476-FDAC-4F58-9A0D-CF6A4220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77B148-E866-4B1D-BDB5-4CB8A8CA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226BC-CA77-4C82-87E3-C0901EFA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431C7-2A6A-4B5B-B784-1D45B7BF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165CC-353B-4D0E-AC3D-84D50F7A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5CD0-23B5-4245-99CA-24B39D82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60605-D559-4EAC-AF63-A61279CA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7806E-2BAA-484D-A886-4F1A1A99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4C0C7-C5A1-4BF9-8C2D-11A7A3A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84695-1470-417E-9A4C-C4690D0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73333-1D2D-4A16-868D-3651649B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6C6C9-8A5A-4375-9A3F-EF906912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B84C1-EAA2-4C60-BA82-4CF94FD3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B05FF-363A-4C1E-B353-76702FE9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A3156-A5F0-442F-B8A0-826FC553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B00E9B-0658-4B9D-9AAA-90F7938F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5780-CA19-4B1F-845B-57D6ABA3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59125-A41F-40B5-8914-C30E1D7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DD466A-80DA-492F-84D0-3F22A0D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CA891-3423-4100-BB17-602480AA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B72A9-0DEB-424B-862F-F6EE132A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24074-8F5F-4BA7-80D7-8E3F5DF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60183-1E6D-42F3-BBBF-65CB1636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B52E97-6C28-4208-8516-35A7840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54F43-9DD9-4DF5-A017-00DE660A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F6AD8-F7A9-40AA-AAD1-521B3ADC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62CA8-3728-49C0-AAE3-160D8EF8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4283-FBF5-4E76-88E6-751427CF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8D119A-78AD-4ED8-9B2A-88CFA209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F2685-6E25-4555-BA36-32DBD8E2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4F49CC-E35F-4956-AD7C-96084D1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F53D6-B36F-44C7-8AEE-B06A1AF3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9401F8-5319-4F83-84AC-934A7912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4318C-AC4A-402D-9892-345326B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6487D-0C7A-4565-A6E5-1F45963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1C73D-D49B-4B4F-8C84-3474925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AE2F8-3E40-477A-9CC0-CE126D2F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B4C9D-3BCB-4791-A922-7BF8B4AF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3E01-DFE4-4641-AF73-42A7AB29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B3A97F-1A67-458D-B8D5-FF2DBFFF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CA5BE-5C07-4019-B02D-E761EE39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C5F0ED-13A2-4471-85AC-D6EAF305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17ABA-B489-4A1D-A817-41FC97E1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CD6F5-6DFD-4B09-A14A-EF3F58F0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7E3927-5416-44BD-96C8-F6DE9C80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BBDB2-29C9-4BDA-ABA4-B2393912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4BE552-3639-4C70-A6D8-8690B6E4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EC88C-5D20-4CFE-BCF3-FE1D8D4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D169B-DF57-48BF-ACDC-4C3846C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E4AA-FDDA-4CE9-ABC7-F0059F55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D739F-4E59-4108-B328-761DC142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4D81D-9FB0-4DB8-BEB0-C05D0D46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267CAE-0AE0-49D5-BEF8-15FFBA9B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FAE9-6C36-40FD-8671-F9612A2F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C198-14D6-42F9-B3D0-7D66A199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4E23A-F708-4494-86C4-95A2B9FB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5E54-BDCA-4ABC-B48D-9D9D6BAE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042-38BA-4E66-BC69-50C51873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7F2D-EECE-4B85-8594-66674DDA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B605A-74FF-4836-AA6B-F8D0B55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DBB82-1BEA-4D1E-B1E8-34B4B1E6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EA2C-6E5E-42FF-8392-61BF868A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3044-04F5-4D59-838F-E678E216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F3D3-3375-4789-87C5-CAFDCCA9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B5BD-21E8-4E1D-9BD7-E148169E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613E-349F-465A-84C2-E126862C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A6CD-0F69-4E66-AC5B-C71BC22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6EABB-F805-491A-BBAE-1D260985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504-489E-46CA-9712-629D23E6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A23A-8620-45AB-B4F5-24696682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3C35F-53DD-41B2-95B9-14CBA721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3E22-0430-4A71-89E0-B4C9EEC1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110E-4AE2-46DC-93E7-8D4CD083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B054-8587-478A-95F4-85CF9D1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8FF9-CA7C-4F7F-B578-BF1882A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D7D3-234F-4627-9F6A-1AD1455A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4CC5-915A-4640-BD40-C6B4AFCB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10BF-B7EA-41E4-B80D-B6238E29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9DC36-AF1D-4975-BBAD-65FF04CA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484-BF94-45E1-8C9B-A4857CFB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8CD1B-522D-4D6A-BAF0-D8C770B7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02EEF-8864-4D3A-9D3E-0273BF94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067A7-467E-45D3-8132-A533F216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75223-3524-487A-ADFA-B50A3EC6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1E81C-449B-4EAB-840E-E6F1D2E2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5C721-A39D-44CF-81EF-A1D25CC4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AD893-24D9-473A-9A9F-E23FFC0F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022C-7561-4086-BA88-AB007AD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99FF-9A3E-499E-98AE-51C379E2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40E5-84B8-4010-A7A8-143854A5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54B-01E3-437D-B4F7-D2597968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5120D-4D3F-4159-96F4-541CEBC2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E5CE-D08F-4A29-8386-DB1D2CC8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1D7B-E4EA-4A70-A6C7-EC4BF92B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6EA27-4D1E-4DE7-921D-43742517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DC994-5736-4D99-97CC-C77DD344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75C66-D670-41FF-A311-74787C95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FA35-EF66-48C6-B00A-8F582C9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9204E-BF59-459D-967A-A7BE60B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E89E0-9BC5-4BF2-A8D1-5870EF4C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7E876-C6AF-4924-B8E2-B90C979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FF4-AD0C-4D23-B671-46731035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9F0AB-BE88-4596-866F-38E1739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15B1-8D5D-46C5-A4AC-43AB7C5F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DF2B2-5038-4182-8051-3C56675A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3D589-5A6B-4884-A4DC-337E5BA0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72491-1216-4416-8D1B-D1CAB80C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A501-7B78-4720-8720-12EA42F1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34D4F-47C4-4009-8627-EAA918FF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F0096-9EEA-45C4-8B06-235D1414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9B64F-7843-45D8-8F69-7B6495BE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64A7-9D0F-406E-9B55-CA7D77E8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3D2-1BA1-44E2-8CDD-19E14A16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2CC3E-A86A-4B12-BD88-6A25C5B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9D957-1127-442D-8687-B61BD72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E33E1-24B1-44FA-A447-DF102042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9CC46-B68E-4495-9804-C3A69BAF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9FC12-CDEB-4640-9F6F-1253EBA3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E9C0C-3F0B-462C-8854-EC0EDB73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45D0-3829-4302-9ED1-5289D35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6D50B-A0AE-45A5-B4D5-FF8FC6BF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653B6-31B6-44A0-B712-309FDFFD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3341F-9BA7-43A7-AADE-7E2A190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BCF-0525-4092-A11C-EFF6961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8227-F8BF-489F-83EE-277ED5E5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A7E5A-4F28-4D72-BEEC-E60EE94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2C0DD-29AF-43E5-AE42-272507D1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A0241-B34F-404E-A2C5-EA1F8EF1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A9D82-4267-4B57-8F12-BF37F199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01588-FAB0-4E1D-B16C-FEF5F685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653E-4529-421B-81BB-CB3CB1CA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E9101-788E-4104-A3D0-C7F72A65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C2A30-10C5-4E8F-BB92-CF5EF0A6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00D83-A7D1-45BC-8D03-C0572533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FDCE-3249-438C-8B3E-1EF16BB1B0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B9C5-C6DA-41F0-9625-2A7198E29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639C-D889-4A1A-B914-8763231B6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69FB-F22E-4D9B-9650-5C7AACB299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E1F2-567A-4C93-BE99-E44432CB2F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CE72-C2FD-48FD-AD81-15ECF4CDEA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A400-2902-43D3-A719-C0C2F56AE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456A-D4B3-4B85-B248-DA5D8941C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DEA9-7AFE-4339-A429-31521F4C4C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6629-03CA-4994-8ECA-C83753AF6C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D129-9BB5-49A9-94CF-9148F3C59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AC53-5AD7-4756-96BC-FD3C541275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3322-159A-4F09-8158-32068FD5FD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1C6B-ED7E-41B7-B3CC-65B23E8176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1491-5E1D-415A-881B-BBD271C0ED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6DD8-7E6F-49A8-ACE4-781A001B66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4B91-0B21-4FFD-A09A-3BA7A7FD9B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D8F6-5D53-4C5F-A186-57F28F2740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3592-4396-40D9-863D-A56B17C385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99D4-C564-49AB-85BB-1DEC6D8D38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9F8C-E7E2-445D-B60F-80FC4AAB0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EC5C-8514-41D4-9BC8-1A59FB9840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4298-70CA-42F7-8E7B-05B9279AC8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2AAF-B56E-4CA5-A66C-A275EFB8D7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9170-4183-490E-A213-827869E599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E77E-1977-413C-BE37-4FB669B46B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FD7C-DB9D-4D7A-93D0-7A911BFE99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6BAC-1A2A-4D3F-914D-1E9DF50A42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318A-C5E9-44E6-BCD1-A89F3065F6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DF41-A1ED-4D7D-B6C0-4FEFED7B99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5A7F-C8E3-4532-9987-8EBFF5AF51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2BC2-4A4F-45F0-85BA-A2D4C67D2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84DA-C05B-4740-BB5D-4284BEE8F1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88D7-1850-4A30-956A-C482890CB6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9F44-669E-40AB-B834-FBE90C2FE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A8D-DEFD-49EA-9590-DFEAFAF77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9484-E4F4-4FE0-B0F1-F324573F8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BB04-EBD1-4587-807F-45E51192AE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9590-1740-4851-BFC8-F134ECF759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C76A-4258-4F3C-8552-A8865F6BF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986120" y="2995560"/>
            <a:ext cx="51717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266760" y="828720"/>
            <a:ext cx="86104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8609" descr=""/>
          <p:cNvPicPr/>
          <p:nvPr/>
        </p:nvPicPr>
        <p:blipFill>
          <a:blip r:embed="rId1"/>
          <a:stretch/>
        </p:blipFill>
        <p:spPr>
          <a:xfrm>
            <a:off x="933480" y="1514520"/>
            <a:ext cx="7277040" cy="382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1116000" y="154296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1044720" y="2060640"/>
            <a:ext cx="72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1042920" y="255096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971640" y="3068640"/>
            <a:ext cx="72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898560" y="3703680"/>
            <a:ext cx="72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826920" y="422100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755640" y="4724280"/>
            <a:ext cx="80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797040"/>
            <a:ext cx="85536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600120" y="1162080"/>
            <a:ext cx="7943760" cy="4533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788000" y="121140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403280" y="247824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492360" y="3141720"/>
            <a:ext cx="1800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164360" y="314172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156360" y="375912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1332000" y="5084640"/>
            <a:ext cx="619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633240" y="2152800"/>
            <a:ext cx="7877520" cy="2552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140360" y="21477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987640" y="27957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1258920" y="3471840"/>
            <a:ext cx="50418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4140360" y="414972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85840" y="824040"/>
            <a:ext cx="8572320" cy="5209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258920" y="4221000"/>
            <a:ext cx="68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971640" y="4883040"/>
            <a:ext cx="68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042920" y="5530680"/>
            <a:ext cx="684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638280" y="1405080"/>
            <a:ext cx="7867440" cy="40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971640" y="27511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1042920" y="4754520"/>
            <a:ext cx="698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43000" y="885960"/>
            <a:ext cx="8658000" cy="54957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332000" y="3673440"/>
            <a:ext cx="633564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258920" y="4221000"/>
            <a:ext cx="633564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1260360" y="4753080"/>
            <a:ext cx="63360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1187280" y="5300640"/>
            <a:ext cx="770580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1042920" y="5848200"/>
            <a:ext cx="770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566640" y="2057400"/>
            <a:ext cx="8010720" cy="2743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784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81160" y="1519200"/>
            <a:ext cx="8581680" cy="3819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755640" y="3241800"/>
            <a:ext cx="648036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64800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55640" y="4321080"/>
            <a:ext cx="648036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11280" y="4869000"/>
            <a:ext cx="6480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8:1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